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56D-20DB-44D9-B147-6710E173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A6E-74C0-40ED-A5E7-FA6A25D3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CCB-E452-4D63-AE04-7A12F8EF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BEB-3FF2-4D85-AC1E-1F34D6CC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93A-57B0-4A47-A96F-6627F1A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53B-A0AD-4009-8A8C-6E92B3E4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866-7047-491F-9A4E-A9A4AF28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93A-E5E3-4773-8CF4-B0F19677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16A-D14E-4C1B-8660-B3789F5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B7B-17A6-429A-901F-F071986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0FD-F6DD-4ED7-999A-500B049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4DA-3881-4411-BE20-2CB5D40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A0C-4C6F-469C-8DA7-EE636EE52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Kristen ITC"/>
              </a:rPr>
              <a:t>A Slideshow of the          Trans-Siberian Rail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477120" y="4191120"/>
          <a:ext cx="3045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1911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Our 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Kristen ITC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aroslav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46708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6095880" y="32004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3200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Inside the 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    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his train has 2nd class 4-bed compartments and a restaurant car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3498840"/>
            <a:ext cx="4572000" cy="31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Juice ITC"/>
              </a:rPr>
              <a:t>Volga Riv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Juice ITC"/>
              </a:rPr>
              <a:t>The train passes over the Volga river on this brid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5029200" cy="337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610480" y="63244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04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Passing by the Ural Mount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733560" cy="263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267080" cy="272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e were passing Yekaterinburg on our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Novosibir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5627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The average temperature for Novosibirsk is 14F high and 6F low in the fall, so we stayed on the train and passed by downtown Novosibir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392280" cy="34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8839080" y="64008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9080" y="64008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106668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Cooper Black"/>
              </a:rPr>
              <a:t>This is the route we took from Moscow to Vladivost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51:39Z</dcterms:created>
  <dc:creator>hannahbyers</dc:creator>
  <dc:description/>
  <dc:language>en-US</dc:language>
  <cp:lastModifiedBy>hannahbyers</cp:lastModifiedBy>
  <dcterms:modified xsi:type="dcterms:W3CDTF">2008-11-25T15:56:01Z</dcterms:modified>
  <cp:revision>5</cp:revision>
  <dc:subject/>
  <dc:title>Slide 1</dc:title>
</cp:coreProperties>
</file>